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131-0226-443B-A122-DE79D2DB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628-C260-49FF-AED7-4258E92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288-74A2-49AF-B26F-8CCC05E2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60E-80D7-4743-A6ED-56750E9E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426-AD1A-4C08-8769-B89FBE61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75D-9D90-4C84-8BE3-B377F7F8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7C6-646B-443A-97CD-CBD0FC68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A7D-8502-4030-8686-3F491353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6E3-2203-4215-867B-B10294F0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EB1-3166-4389-82AB-9B7B2753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52E-74D2-4515-917D-9DB18FF8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E79-8FB3-40E8-8F6B-B9432ED1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A2CF-0324-40F3-9099-40FAF1D1C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world belongs t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earth and all its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Psalm 2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ve and peace come toge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ustice and peace join h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8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good and how lovely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ive together in 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13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f the Lord’s disciples keep si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se stones would shout alo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uke 19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open our 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our mouths shall procla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5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17:11Z</dcterms:created>
  <dc:creator>Anon Anon</dc:creator>
  <dc:description/>
  <dc:language>en-US</dc:language>
  <cp:lastModifiedBy>Anon Anon</cp:lastModifiedBy>
  <dcterms:modified xsi:type="dcterms:W3CDTF">2005-08-09T05:04:47Z</dcterms:modified>
  <cp:revision>6</cp:revision>
  <dc:subject/>
  <dc:title>PowerPoint Presentation</dc:title>
</cp:coreProperties>
</file>